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  <p:custShowLst>
    <p:custShow name="Chapter" id="0">
      <p:sldLst>
        <p:sld r:id="rId10"/>
        <p:sld r:id="rId8"/>
        <p:sld r:id="rId3"/>
        <p:sld r:id="rId4"/>
      </p:sldLst>
    </p:custShow>
    <p:custShow name="ELI Sect 3" id="1">
      <p:sldLst>
        <p:sld r:id="rId4"/>
        <p:sld r:id="rId5"/>
        <p:sld r:id="rId6"/>
        <p:sld r:id="rId7"/>
        <p:sld r:id="rId8"/>
        <p:sld r:id="rId9"/>
        <p:sld r:id="rId10"/>
      </p:sldLst>
    </p:custShow>
    <p:custShow name="Transparencies" id="2">
      <p:sldLst>
        <p:sld r:id="rId3"/>
      </p:sldLst>
    </p:custShow>
    <p:custShow name="Chapter menu" id="3">
      <p:sldLst>
        <p:sld r:id="rId4"/>
        <p:sld r:id="rId5"/>
        <p:sld r:id="rId6"/>
        <p:sld r:id="rId7"/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cean B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3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an-Floor Sedi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cean-Floor Sed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urces of Deep Ocean-Basin Sed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ysical Classification of Sed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ps in 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ation of ocean-floor sedim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cean-floor sediments are classified by their physical composi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-Floor Sedi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sition of ocean sediments varies and depends on which part of the ocean floor the sediments form i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rse gravel and sand are usually found close to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er particles are suspended in ocean water and are usually deposited at a great distance from sho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urces of Deep Ocean-Basin Sedi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e samp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sediment samples show that most of the sediments in the deep-ocean basins are made of materials that settle slowly from the ocean water abov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may come from organic or inorganic sourc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942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organic Sed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cean-basin sediments are rock particles that were carried from land by riv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eep ocean-basin sediments consist of fine particles of rock, including volcanic dust, that have been blown great distances out to sea by the win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bergs also provide sediments that can end up on the ocean basins. Even meteorites contribute to deep ocean-basin sedim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6840" y="9266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urces of Deep Ocean-Basin Sedi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266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urces of Deep Ocean-Basin Sedi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942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genic Sed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ioge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es from the Latin wo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io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means “life,”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n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means “origin.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genic sediments are the remains of marine plants and animals. The two most common compounds found in organic sediments ar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266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urces of Deep Ocean-Basin Sedi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942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emical Depos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du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emical reactions take place in the ocean, solid materials can form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ubstances that are dissolved in ocean water crystallize, these materials settle to the ocean floor as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Classification of Sedi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physical characteristics, deep ocean-floor sediments are classified as mud or as ooz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u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lcareous ooz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liceous oo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can be found at any depth, is made of mostly silicon dioxide, which comes from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32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498680"/>
            <a:ext cx="78246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Sediment Thickness of Earth’s Ocea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3" name="Picture 9" descr="Image3 in HEaS_19_win"/>
          <p:cNvPicPr/>
          <p:nvPr/>
        </p:nvPicPr>
        <p:blipFill>
          <a:blip r:embed="rId1"/>
          <a:stretch/>
        </p:blipFill>
        <p:spPr>
          <a:xfrm>
            <a:off x="2057400" y="1965240"/>
            <a:ext cx="495288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3-10T15:47:29Z</dcterms:modified>
  <cp:revision>626</cp:revision>
  <dc:subject/>
  <dc:title>No Slide Title</dc:title>
</cp:coreProperties>
</file>